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CEA3-E07B-425B-8D06-AF0DC2BDC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F6D4-447C-424B-A1D5-C31F1908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2AEC-45F4-4347-BEFD-5DBD6682C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8D96-45E9-48EA-9002-B28CDFE55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C2E2E-8C08-46FF-BD33-835AB73A6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5CB1-2A06-4A36-AE73-F2B88383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BB4A-281C-4F78-84A6-94FFCE0E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5323E-3BD5-4197-A868-07349A93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51FE-9D7E-46C5-A1E8-E2A7B392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5CA90-85AD-4B49-8FCC-31F589B3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C5E0-A21D-4155-AF99-7B620937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0092-C753-4765-8FB8-D194D734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6934C-C4BE-4BD2-AB9A-5151FDDE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E471-A869-406A-85C4-2DFC3ADC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45DA-8844-4208-B7B5-769051CE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125B-9F04-4B89-81BF-1223665E1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8064-68A8-481A-99B8-E7880A52A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D2377-2E8F-436A-A5C5-F260B94F6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7C945-877A-4528-94D9-33F0055B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DA226-A16F-4021-A91B-A83FB740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F336F-8E55-49F6-B3CE-8C7DDD6F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95DC1-79EA-474E-A496-47822EC7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F352-69B9-4F6C-BB71-007E7B72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86F1E-EA6A-4B5E-B0DE-3F8B6B00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D9914-46EF-4CD0-BB74-F577967D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9F7C5-7363-46E2-B3FE-444E79BF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0A66C-5B1A-4DC0-BA9A-578D6585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35555-1BDF-4FEF-A030-12758F5B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A6B02-7CDB-4E27-98DD-17AD27A02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70C8F-AE61-4ACA-9251-E75BE61D4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53EDB-32F4-481B-8DC4-8BA3F1F49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9DC05-C10B-4DAD-B2D7-3D5CC478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B3DA5-050F-4291-877B-EDDA6933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7F07-14E3-4FB7-97BB-56DF55D9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A075A-A262-4FDE-8E85-85A7AA45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5F400-267A-4F2E-9168-638B3E3C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99518-0B14-4486-AB92-19D32275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D54DB-130E-4209-BCC6-EDEC2872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A1052-0247-4EAD-B464-C57518BB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58C01-1F54-48F5-A5FC-F53FAA1D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9384F-4EC9-440F-9F03-70A90ED8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96253-0B29-420B-A76A-FCD68BC00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4B584-C844-48A2-9710-0CFE10D9D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2F367-7518-4E69-A628-C45973B68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C40F-3E14-4567-B192-9A496B19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D2657-5B96-4CBC-8405-C534C9FA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9C4E6-8E04-4738-ADCF-05B98D83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66F10-F939-447D-96F3-62686DC3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F5158-3523-4F43-8A17-6F309E63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35685-EC41-4DB9-877C-C4CC5684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A2B27-56AC-49EB-9504-121841B7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BB9A2-FACB-4D83-86B0-D4F3F933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59C0A-EBC2-4224-881C-453FD2C9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66B97-61E6-4BD6-9CA7-0FFBF649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33A9E-89EF-485B-ACBD-6F6161427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EDC1-F159-4931-8DA4-41E80101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682CC-950C-48E7-9923-2CB7E74A9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18B9A-F669-430D-AFEB-076CABED0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D5EC6-7EEE-4447-9048-DAAEB108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0EEEE-011C-437F-A469-D674D8D2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9921C-12F5-424B-B4AC-6848D918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35311-A144-414C-B183-42C6656D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DBC17-6CD8-4F35-B1DE-82FF48C1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4F74D-6A08-42DF-B35F-A51BB1D9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58355-53F6-41F4-BD15-4286B83F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4B85E-C292-45B8-9A1A-6BF448FC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BE91-A10D-473B-AFAE-0D6B03E4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D475C-8718-4370-A170-760FB56B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E0053-6188-40D0-AB38-2A29BD3A1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7BCAD-96B6-4E0D-8924-EBB574C72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5D20E-48BB-44DB-9C01-237079B32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FB63D-A1CB-4DC8-ACD1-DC2C4FBF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5574F-1B0C-4800-A62C-6A8CFAF2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991F2-B960-47B4-A1EA-E773614A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88292-48AE-44B9-A8A7-DA29158A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578B9-F531-4900-8BD8-CEB42692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81327-7184-487E-B77E-51B66742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CD06-F9E1-4E91-BBFF-F5F01ACE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65646-A655-4E25-9B15-696F75A4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C31A3-0297-4907-A5DD-E9337A89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008C8-A89D-4566-8C14-52798854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A8404-6DC7-4BBF-8BCD-FD37F5901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77D53-715D-469C-A275-CE0DEEFF0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60FF39-B4B1-458C-AA96-CAFE5A18C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4630CF-00E6-4179-91EF-1D39A64B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F62314-BEA4-4BC8-A102-A5B98C53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169027-96C8-459D-A57B-E761715F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B57E25-CCA5-4D50-9EA2-BC4A3564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F006-6132-4C36-B3EB-2B8BA3BA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9A18B2-2AEB-44EC-8489-12A107F4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C51022-DD08-4865-B244-E281E2FD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CF0F13-0D35-4B7D-B3E8-83C03744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E0B437-AAE3-4E9A-82D9-BD859209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03E370-4CD5-4618-A7F1-53FF9937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5D548D-714E-4D92-8C10-33562F7BD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89E6C9-A3ED-4A4B-B142-008975F28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74A8-3DA2-4FFD-BC3A-516C122014C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2463-D08F-4F5F-9324-86AE939675E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9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B437-FF20-4CA1-A831-5AEFED5AF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39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9590-7E37-41BD-9B35-F71B272B9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6390-A552-41E0-9DFE-AA072F6A40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BDB9-7F63-4E20-9F04-A5E0939CF5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7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7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8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DF14-AA81-4FDC-BA95-40800839E6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2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3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3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4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6DC7-56F9-4CDB-80B0-14DC139DE1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5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7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Tahoma"/>
              </a:rPr>
              <a:t>comida española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limentos en españ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ara el desayun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0" y="144756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galle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51920" y="4343040"/>
            <a:ext cx="26672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l p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476760" y="4343040"/>
            <a:ext cx="2361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manza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380880" y="1905120"/>
            <a:ext cx="3048120" cy="198108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304920" y="144756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l panqueq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4"/>
          <a:stretch/>
        </p:blipFill>
        <p:spPr>
          <a:xfrm>
            <a:off x="4572000" y="1828800"/>
            <a:ext cx="3048120" cy="198108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3276720" y="4527720"/>
            <a:ext cx="2361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124080" y="4527720"/>
            <a:ext cx="297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048120" y="414648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038480" y="422280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497400" y="422280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 le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5"/>
          <a:stretch/>
        </p:blipFill>
        <p:spPr>
          <a:xfrm>
            <a:off x="3657600" y="4572000"/>
            <a:ext cx="1447920" cy="167652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6"/>
          <a:stretch/>
        </p:blipFill>
        <p:spPr>
          <a:xfrm>
            <a:off x="152280" y="4800600"/>
            <a:ext cx="2743200" cy="147312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7"/>
          <a:stretch/>
        </p:blipFill>
        <p:spPr>
          <a:xfrm>
            <a:off x="6705720" y="4724280"/>
            <a:ext cx="1933560" cy="15242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Para al alumuerzo 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3124080" cy="19558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517680" y="1251000"/>
            <a:ext cx="26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41360" y="1251000"/>
            <a:ext cx="29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41360" y="1174680"/>
            <a:ext cx="29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0000"/>
                </a:solidFill>
                <a:latin typeface="Tahoma"/>
              </a:rPr>
              <a:t>Hamburguesa con que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" descr="Butternut Squash French Fries"/>
          <p:cNvPicPr/>
          <p:nvPr/>
        </p:nvPicPr>
        <p:blipFill>
          <a:blip r:embed="rId3"/>
          <a:stretch/>
        </p:blipFill>
        <p:spPr>
          <a:xfrm>
            <a:off x="5486400" y="1600200"/>
            <a:ext cx="3124080" cy="20001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5724720" y="1098720"/>
            <a:ext cx="20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Papas frita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4"/>
          <a:stretch/>
        </p:blipFill>
        <p:spPr>
          <a:xfrm>
            <a:off x="304920" y="4495680"/>
            <a:ext cx="2590560" cy="20653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418320" y="414648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Pizz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5"/>
          <a:stretch/>
        </p:blipFill>
        <p:spPr>
          <a:xfrm>
            <a:off x="3809880" y="4419720"/>
            <a:ext cx="1752840" cy="20574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3724200" y="4070520"/>
            <a:ext cx="158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ka-c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6"/>
          <a:stretch/>
        </p:blipFill>
        <p:spPr>
          <a:xfrm>
            <a:off x="7010280" y="4419720"/>
            <a:ext cx="1641600" cy="20574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7070760" y="3809880"/>
            <a:ext cx="107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es-ES" sz="1800" spc="-1" strike="noStrike">
                <a:solidFill>
                  <a:srgbClr val="ff0000"/>
                </a:solidFill>
                <a:latin typeface="Tahoma"/>
              </a:rPr>
              <a:t>ensal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477120" y="6400800"/>
            <a:ext cx="30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No me gusta cuan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La cena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2514600" cy="207000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402840" y="117468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ifte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3"/>
          <a:stretch/>
        </p:blipFill>
        <p:spPr>
          <a:xfrm>
            <a:off x="5943600" y="1600200"/>
            <a:ext cx="2666880" cy="20574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6172200" y="1143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004080" y="1174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324480" y="1295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030360" y="1174680"/>
            <a:ext cx="16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escad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5:14:57Z</dcterms:created>
  <dc:creator>Evan Lee</dc:creator>
  <dc:description/>
  <dc:language>en-US</dc:language>
  <cp:lastModifiedBy>Evan Lee</cp:lastModifiedBy>
  <dcterms:modified xsi:type="dcterms:W3CDTF">2011-04-14T15:05:15Z</dcterms:modified>
  <cp:revision>6</cp:revision>
  <dc:subject/>
  <dc:title>comida española</dc:title>
</cp:coreProperties>
</file>